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D15E-405C-4DCD-A17C-E5D139AD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414B-F620-4010-A819-F1A6580D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52E9-C97A-4030-9B49-A5E0ED5B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B0AF-96AC-4F4D-A774-0DC3F0DC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6ADE-456E-46D5-B18C-45517606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D1AA-41F0-47E8-960B-010241B3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6FCF-8EA3-4666-8A77-E947309D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60E7-1133-4440-81E9-2AFE77D2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D49B-38F8-42D8-9701-72DA7F90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53F4-6CCD-4AEF-B93B-E3CF6A86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A0BA-2247-4AD9-9DD6-AFE1F2DE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35CC-967B-4CF2-A3F3-7F561C1F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B0B0-4097-4300-B8B7-DB50765080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395280" y="3960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лицей №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й (творческий) про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творческого потенциала учащихся на уроках технологии и занятиях дополнительного образования  через спортивно-конкурсную программу «Эх, прокачусь!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2" descr="Описание: C:\Users\Дом\Desktop\Санки\DSC01838.JPG"/>
          <p:cNvPicPr/>
          <p:nvPr/>
        </p:nvPicPr>
        <p:blipFill>
          <a:blip r:embed="rId1"/>
          <a:srcRect l="2637" t="0" r="0" b="0"/>
          <a:stretch/>
        </p:blipFill>
        <p:spPr>
          <a:xfrm>
            <a:off x="2627280" y="1916280"/>
            <a:ext cx="3921120" cy="3025440"/>
          </a:xfrm>
          <a:prstGeom prst="rect">
            <a:avLst/>
          </a:prstGeom>
          <a:ln w="25560">
            <a:solidFill>
              <a:srgbClr val="0d0d0d">
                <a:alpha val="50000"/>
              </a:srgbClr>
            </a:solidFill>
            <a:miter/>
          </a:ln>
        </p:spPr>
      </p:pic>
      <p:sp>
        <p:nvSpPr>
          <p:cNvPr id="43" name="Rectangle 3"/>
          <p:cNvSpPr/>
          <p:nvPr/>
        </p:nvSpPr>
        <p:spPr>
          <a:xfrm>
            <a:off x="250920" y="5244480"/>
            <a:ext cx="8677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55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 Писковитин  Александр Васильевич, учитель 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55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ехнический труд и черчение) высшей квалификационной категор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55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ный  работник  общего образования Российской Федерации,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55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еран  труда Р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55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Сургу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55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539640" y="1124280"/>
            <a:ext cx="806472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вая аудитор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участниками проекта являются учащиеся среднего и старшего звена обучения (7-е – 11-е  классы), которые принимают непосредственное участие в конструировании саней, подготовке атрибутики команд, соревнованиях. Это порядка 15 – 30 человек (может быть более – зависит от количества команд в тот или иной год выступления). Учитывая, что проект носит коллективный, массовый характер на городском уровне, соревнования проходят весной, когда уже светит солнышко и просыпается природа, а люди стремятся на свежий воздух, общее количество участников велико. Их возраст и социальный статус разнообразны. Главное – всем весело, интересно и полез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3"/>
          <p:cNvSpPr/>
          <p:nvPr/>
        </p:nvSpPr>
        <p:spPr>
          <a:xfrm>
            <a:off x="684360" y="54936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еализации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539640" y="1731960"/>
            <a:ext cx="8209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о-подготовительный (апрель-май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 выставляются в учебных мастерских для всеобщего обозр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стерские допускаются все желающ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Поисково-конструкторский (летние каникулы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етверть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аботка идей, подготовка материала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Технологический (ноябрь-январь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саней, атрибутики, составление речевок, девиз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Заключительный (февраль-март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дка саней, тренировочные заезды, инструктажи по Т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Презентация (март-апрель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выступление на городском уровне, коллективный здоровый отдых на природе с друзьями, родит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826920" y="821160"/>
            <a:ext cx="7632720" cy="50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е результаты в социальной сфе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ом моего проекта является ежегодное участие в городской спортивно - конкурсной программ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х, прокачусь!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хнической направленности. Это позволя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ть у детей и подростков устойчивый интерес к занятиям технического конструирования и моделир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являть и поддерживать творческий потенциал воспитан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командный дух и умение взаимодействовать  в коллекти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этому проекту возрос интерес учащихся не только к предмету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о и к возможности представлять свои проекты для внешней экспертизы: участие в олимпиадах по техническому труду, школьных и городских выставках технического и декоративно-прикладного твор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611280" y="354240"/>
            <a:ext cx="7993080" cy="295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ы дальнейшего развития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ктивный проект спортивно - конкурсной программы «Эх, прокачусь!» - доказательство этому. Он успешно прошел испытание временем, доказал свою востребованность у учеников и их родителей, завоевал право на жизнь. Проект пропагандирует развитие технического творчеств; воспитание чувства коллективизма, сопричастности к общему делу; приобщение к здоровому образу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13" descr="Описание: E:\Приложения\DSC02017.JPG"/>
          <p:cNvPicPr/>
          <p:nvPr/>
        </p:nvPicPr>
        <p:blipFill>
          <a:blip r:embed="rId1"/>
          <a:stretch/>
        </p:blipFill>
        <p:spPr>
          <a:xfrm>
            <a:off x="4729320" y="3141720"/>
            <a:ext cx="4019400" cy="3014640"/>
          </a:xfrm>
          <a:prstGeom prst="rect">
            <a:avLst/>
          </a:prstGeom>
          <a:ln w="25560">
            <a:solidFill>
              <a:srgbClr val="000000">
                <a:alpha val="50000"/>
              </a:srgbClr>
            </a:solidFill>
            <a:miter/>
          </a:ln>
        </p:spPr>
      </p:pic>
      <p:sp>
        <p:nvSpPr>
          <p:cNvPr id="71" name="Прямоугольник 5"/>
          <p:cNvSpPr/>
          <p:nvPr/>
        </p:nvSpPr>
        <p:spPr>
          <a:xfrm>
            <a:off x="611280" y="3357720"/>
            <a:ext cx="396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ое мероприятие стало ежегодным, традиционным. Необходимо рекламировать и  развивать данный проект на уровне города, района, округа; привлекать больше творческих объединений. В нашем лицее данному проекту быть!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900000" y="549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нование необходимости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"/>
          <p:cNvSpPr/>
          <p:nvPr/>
        </p:nvSpPr>
        <p:spPr>
          <a:xfrm>
            <a:off x="250920" y="1237320"/>
            <a:ext cx="4537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разовании, и, в «Технологии» в частности, наиболее продуктивным считается проектная деятельность, которая предусматривает системно – деятельностный подход в обучении. В процессе проектной деятельности учащиеся развивают свой творческий потенциал и усваивают основополагающие закономерности построения современных технолог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6" descr="Описание: E:\Приложения\DSC01183.JPG"/>
          <p:cNvPicPr/>
          <p:nvPr/>
        </p:nvPicPr>
        <p:blipFill>
          <a:blip r:embed="rId1"/>
          <a:srcRect l="0" t="0" r="0" b="9085"/>
          <a:stretch/>
        </p:blipFill>
        <p:spPr>
          <a:xfrm>
            <a:off x="4927680" y="1484280"/>
            <a:ext cx="3965400" cy="2703600"/>
          </a:xfrm>
          <a:prstGeom prst="rect">
            <a:avLst/>
          </a:prstGeom>
          <a:ln w="25560">
            <a:solidFill>
              <a:srgbClr val="0d0d0d">
                <a:alpha val="50000"/>
              </a:srgbClr>
            </a:solidFill>
            <a:miter/>
          </a:ln>
        </p:spPr>
      </p:pic>
      <p:sp>
        <p:nvSpPr>
          <p:cNvPr id="47" name="Прямоугольник 6"/>
          <p:cNvSpPr/>
          <p:nvPr/>
        </p:nvSpPr>
        <p:spPr>
          <a:xfrm>
            <a:off x="250920" y="4370400"/>
            <a:ext cx="8207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я интересы детей, я пришел к выводу, что индивидуальные творческие проекты не всегда отвечают требованиям обучения, тем более, воспитания подрастающего поколения. В современном обществе, когда превалирует прагматизм, власть денег, часто бездушие и безразличие в человеческих отношениях, теряется чувство коллективизма, взаимовыручки, в конце концов, патриот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468360" y="776880"/>
            <a:ext cx="3024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проект спортивно-конкурсной  программы «Эх, прокачусь!» является крупномасштабным коллективным проектом, в который вовлечены учащиеся, учителя, родители и просто жители города Сургу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7" descr="Описание: E:\Приложения\5.JPG"/>
          <p:cNvPicPr/>
          <p:nvPr/>
        </p:nvPicPr>
        <p:blipFill>
          <a:blip r:embed="rId1"/>
          <a:stretch/>
        </p:blipFill>
        <p:spPr>
          <a:xfrm>
            <a:off x="3635280" y="404640"/>
            <a:ext cx="5175360" cy="3340440"/>
          </a:xfrm>
          <a:prstGeom prst="rect">
            <a:avLst/>
          </a:prstGeom>
          <a:ln w="25560">
            <a:solidFill>
              <a:srgbClr val="000000">
                <a:alpha val="50000"/>
              </a:srgbClr>
            </a:solidFill>
            <a:miter/>
          </a:ln>
        </p:spPr>
      </p:pic>
      <p:sp>
        <p:nvSpPr>
          <p:cNvPr id="50" name="Прямоугольник 3"/>
          <p:cNvSpPr/>
          <p:nvPr/>
        </p:nvSpPr>
        <p:spPr>
          <a:xfrm>
            <a:off x="468360" y="3860640"/>
            <a:ext cx="842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направлен не только на развитие творческого потенциала учащихся на уроках технологии и занятиях дополнительного образования, но и на воспитание командного духа, умение взаимодействовать в коллективе, привлечение большого количества людей для проведения совместного веселого, завлекательного, полезного общегородского  досугового  мероприя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395280" y="702000"/>
            <a:ext cx="8317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моего проекта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мотивации учащихся к изучению предмета «Технология. Технический труд», развитие творческих способностей с помощью коллективного творческого проекта, предусматривающего не только создание объекта творчества, но и презентация его в виде спортивно-массового мероприятия на городском уров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ние у детей устойчивого интереса к занятиям технического конструирования и моделир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явление и поддержка творческого потенциала воспитанни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ание общественно ценных мотивов деятельности (коллективизм, патриотизм, ответственность, чувство сопричастности к общему делу и т.д.) в процессе интеграции различных предметных областей и различных видов исследовательской, проектной и практической деятельности учащихся во взаимодействии с другими участниками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содержание прое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720720" y="1476360"/>
            <a:ext cx="8099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онкурс проводиться 1 раз в год на базе МА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ской пар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март-апрел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частники: образовательные учреждения г.Сургута и рай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зрабатывается или корректируется общее Положение конкурса совместно с представителями городского парка и руководителями команд-участ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Изготавливаются санки по параметрам определенным Полож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Формируются команды участники группы болельщиков для участия в спортивной эстаф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Разрабатываются девизы, речевки, атрибутика коман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Осуществляются тренировочные мероприя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Инструктаж по Т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Соревн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Подведение ит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ные изделия – са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 в приложени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24000" y="1123920"/>
          <a:ext cx="8521560" cy="5502240"/>
        </p:xfrm>
        <a:graphic>
          <a:graphicData uri="http://schemas.openxmlformats.org/drawingml/2006/table">
            <a:tbl>
              <a:tblPr/>
              <a:tblGrid>
                <a:gridCol w="387360"/>
                <a:gridCol w="2085840"/>
                <a:gridCol w="2921040"/>
                <a:gridCol w="3127320"/>
              </a:tblGrid>
              <a:tr h="64152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са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команд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ви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етствие (читал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Ура, Югра!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 Югре, Югре дорогу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гра – наша родина, Югра – наш дом и мы в нем счастливо живем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Ураган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ганит миг победы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ган сметает всех, впереди нас ждет успе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Шальные табуретк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перед и в низ, а там…(победа ожидает, поверьте нам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буретки наши класс, победим мы всех сейча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Чертова колесниц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трашен черт, нестрашен дьявол, когда друзья сплотились рядом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т летит на колеснице, разлетаются все птиц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Буран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ство и отвага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м не страшен ураган, когда рядом есть «Буран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Русь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, вперед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355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ша Родина – Русь Великая, Русь могучая, многолика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539640" y="172800"/>
            <a:ext cx="8028000" cy="631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ым для любого учителя в его инновационной деятельности является ресурсное обеспечение учебного процесса. Для учителей технологии, чей предмет наиболее затратный в плане материально - технического обеспечения, этот особенно актуально. Для реализации моего проект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х, прокачусь!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основном имеются необходимые условия как административные, так и материальные. Администрация, понимая значимость проекта для образования и воспитания учащихся, выделяет необходимые денежные средства. Но для успешной реализации проекта деньги не являются основным источником результата, важно грамотно расставить приорит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дровый ресурс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неджер проект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дминистрация лице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ителя технологии, физики, черчения, ИЗО, литера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дагоги дополнительно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ременной ресур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есь учебный год, включая канику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формационный ресур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итературные исторические источники, технические справочники, ресурсы Интерн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468360" y="419400"/>
            <a:ext cx="784872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териально – технический ресур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еализации поставленных задач в  лицея №2 имеются комбинированные мастерские: столярно-механическая и слесарно-механическ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468360" y="4657680"/>
            <a:ext cx="828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инансовые ресурс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итывая, что в основном материалы используются из вторичного сырья (отходы производства, б/у школьная мебель, разукомплектованные лыжи и т. д.), денежные затраты невелики. Это 1000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00 рублей на краску и крепежные детали. А также 1500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500 рублей на атрибутику и экипировку коман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2" descr="Описание: E:\Приложения\DSC02040.JPG"/>
          <p:cNvPicPr/>
          <p:nvPr/>
        </p:nvPicPr>
        <p:blipFill>
          <a:blip r:embed="rId1"/>
          <a:stretch/>
        </p:blipFill>
        <p:spPr>
          <a:xfrm>
            <a:off x="755640" y="1778040"/>
            <a:ext cx="3456000" cy="2587680"/>
          </a:xfrm>
          <a:prstGeom prst="rect">
            <a:avLst/>
          </a:prstGeom>
          <a:ln w="25560">
            <a:solidFill>
              <a:srgbClr val="000000">
                <a:alpha val="50000"/>
              </a:srgbClr>
            </a:solidFill>
            <a:miter/>
          </a:ln>
        </p:spPr>
      </p:pic>
      <p:pic>
        <p:nvPicPr>
          <p:cNvPr id="60" name="Рисунок 5" descr="Описание: E:\Приложения\DSC02035.JPG"/>
          <p:cNvPicPr/>
          <p:nvPr/>
        </p:nvPicPr>
        <p:blipFill>
          <a:blip r:embed="rId2"/>
          <a:stretch/>
        </p:blipFill>
        <p:spPr>
          <a:xfrm>
            <a:off x="4884840" y="1773360"/>
            <a:ext cx="3432240" cy="2570040"/>
          </a:xfrm>
          <a:prstGeom prst="rect">
            <a:avLst/>
          </a:prstGeom>
          <a:ln w="25560">
            <a:solidFill>
              <a:srgbClr val="000000">
                <a:alpha val="50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250920" y="853200"/>
            <a:ext cx="3816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ами моего проекта является большой круг организаторов, помощников, энтузиастов. Эт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дминистрация лицея, классные руководители, учителя-предметники, педагоги дополнительного образ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У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ской пар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ЮТ (станция юных техников), инициативные учителя города Сургу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10" descr="Описание: E:\Приложения\DSC01291.JPG"/>
          <p:cNvPicPr/>
          <p:nvPr/>
        </p:nvPicPr>
        <p:blipFill>
          <a:blip r:embed="rId1"/>
          <a:stretch/>
        </p:blipFill>
        <p:spPr>
          <a:xfrm>
            <a:off x="4211640" y="1197000"/>
            <a:ext cx="4408560" cy="3297240"/>
          </a:xfrm>
          <a:prstGeom prst="rect">
            <a:avLst/>
          </a:prstGeom>
          <a:ln w="25560">
            <a:solidFill>
              <a:srgbClr val="000000">
                <a:alpha val="50000"/>
              </a:srgbClr>
            </a:solidFill>
            <a:miter/>
          </a:ln>
        </p:spPr>
      </p:pic>
      <p:sp>
        <p:nvSpPr>
          <p:cNvPr id="63" name="Прямоугольник 5"/>
          <p:cNvSpPr/>
          <p:nvPr/>
        </p:nvSpPr>
        <p:spPr>
          <a:xfrm>
            <a:off x="3502080" y="40464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250920" y="450864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дители учащихся, спонсоры проекта (компани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ai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О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шка- сладкоеж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агазин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ш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д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08:00:51Z</dcterms:created>
  <dc:creator>Дом</dc:creator>
  <dc:description/>
  <dc:language>en-US</dc:language>
  <cp:lastModifiedBy>Дом</cp:lastModifiedBy>
  <dcterms:modified xsi:type="dcterms:W3CDTF">2012-11-20T14:11:26Z</dcterms:modified>
  <cp:revision>13</cp:revision>
  <dc:subject/>
  <dc:title>Слайд 1</dc:title>
</cp:coreProperties>
</file>